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597-5600-411F-BDAE-B3028F6E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A5E-6CBA-4BE3-8333-0ECFD563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D53-17FF-4CA4-BB8B-8E8A3989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BD69-3D0D-484E-89A5-4276F0D2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73A-36EA-4BE7-A7C5-CF1EADB3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CE7-A442-45C9-A9C3-95E7B1E7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711B-F91C-4708-9B48-60597497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7F4-0220-43D0-86F4-7B9D83D2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F9A5-099E-41C1-A83B-8CBB1E6E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8EB-E5DB-453A-B5C8-79238926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C37A-376D-4CD5-A0F8-AEECCEF1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664-489C-4C8D-A485-7558484B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1ADA-59FF-4D98-871A-675A16257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world belongs to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earth and all its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Psalm 2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ve and peace come toge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ustice and peace join h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85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w good and how lovely 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live together in un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133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f the Lord’s disciples keep si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se stones would shout alou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uke 19: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open our 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our mouths shall procla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51: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17:11Z</dcterms:created>
  <dc:creator>Anon Anon</dc:creator>
  <dc:description/>
  <dc:language>en-US</dc:language>
  <cp:lastModifiedBy>Anon Anon</cp:lastModifiedBy>
  <dcterms:modified xsi:type="dcterms:W3CDTF">2005-08-09T05:04:47Z</dcterms:modified>
  <cp:revision>6</cp:revision>
  <dc:subject/>
  <dc:title>PowerPoint Presentation</dc:title>
</cp:coreProperties>
</file>